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117-2E4E-4217-B42D-09BCB655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F81-A20A-43C7-82A2-CB92084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2CB-CBF0-4285-8F5D-00F34951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ECC-82F4-4E76-A721-4FCD7A4B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D30-9EAE-4B4C-956D-2AE1DBA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A3C-ADB6-4C4B-ACA9-B45712D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398-7611-46FC-8324-8973200D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1B2-0602-4CA1-9587-F492E6D3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DD1-B61A-4D4A-BCD2-13C5424D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155-1B54-4836-B789-738064D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984-C5A8-4AA0-A6F8-312E89B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D04-3466-4B1B-AA58-4F7D129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498-0D36-481E-A135-0A95667B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8,4,the U.S." TargetMode="External"/><Relationship Id="rId3" Type="http://schemas.openxmlformats.org/officeDocument/2006/relationships/hyperlink" Target="259,5,country" TargetMode="External"/><Relationship Id="rId4" Type="http://schemas.openxmlformats.org/officeDocument/2006/relationships/hyperlink" Target="260,6,speak" TargetMode="External"/><Relationship Id="rId5" Type="http://schemas.openxmlformats.org/officeDocument/2006/relationships/hyperlink" Target="262,8,stripe" TargetMode="External"/><Relationship Id="rId6" Type="http://schemas.openxmlformats.org/officeDocument/2006/relationships/hyperlink" Target="263,9,next to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7,3,Words and phrase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 9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38_120905155322_1"/>
          <p:cNvPicPr/>
          <p:nvPr/>
        </p:nvPicPr>
        <p:blipFill>
          <a:blip r:embed="rId2"/>
          <a:stretch/>
        </p:blipFill>
        <p:spPr>
          <a:xfrm>
            <a:off x="0" y="1219320"/>
            <a:ext cx="5181480" cy="384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078775625424_2"/>
          <p:cNvPicPr/>
          <p:nvPr/>
        </p:nvPicPr>
        <p:blipFill>
          <a:blip r:embed="rId3"/>
          <a:stretch/>
        </p:blipFill>
        <p:spPr>
          <a:xfrm>
            <a:off x="3809880" y="3735360"/>
            <a:ext cx="5143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’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…=here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法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似，用来介绍人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Here’s the capital city of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6013014035632687"/>
          <p:cNvPicPr/>
          <p:nvPr/>
        </p:nvPicPr>
        <p:blipFill>
          <a:blip r:embed="rId3"/>
          <a:stretch/>
        </p:blipFill>
        <p:spPr>
          <a:xfrm>
            <a:off x="304920" y="2819520"/>
            <a:ext cx="6400800" cy="3816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 flipH="1" rot="17776200">
            <a:off x="6024240" y="3500280"/>
            <a:ext cx="1584360" cy="222480"/>
          </a:xfrm>
          <a:prstGeom prst="leftRightArrow">
            <a:avLst>
              <a:gd name="adj1" fmla="val 50000"/>
              <a:gd name="adj2" fmla="val 14239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学二、看图片，小组讨论，组织语言，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型来描述图片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flag of the U.S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s stars and stri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78775625424_2"/>
          <p:cNvPicPr/>
          <p:nvPr/>
        </p:nvPicPr>
        <p:blipFill>
          <a:blip r:embed="rId2"/>
          <a:stretch/>
        </p:blipFill>
        <p:spPr>
          <a:xfrm>
            <a:off x="533520" y="1752480"/>
            <a:ext cx="74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the map of the U.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257478822NgHwuPLG"/>
          <p:cNvPicPr/>
          <p:nvPr/>
        </p:nvPicPr>
        <p:blipFill>
          <a:blip r:embed="rId2"/>
          <a:stretch/>
        </p:blipFill>
        <p:spPr>
          <a:xfrm>
            <a:off x="380880" y="1411200"/>
            <a:ext cx="7543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capital city of the U.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I{4OA)]JMZ{AY0YVFK5APG"/>
          <p:cNvPicPr/>
          <p:nvPr/>
        </p:nvPicPr>
        <p:blipFill>
          <a:blip r:embed="rId2"/>
          <a:stretch/>
        </p:blipFill>
        <p:spPr>
          <a:xfrm>
            <a:off x="533520" y="1600200"/>
            <a:ext cx="6476760" cy="4643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 rot="19376400">
            <a:off x="4647960" y="990720"/>
            <a:ext cx="287280" cy="2286000"/>
          </a:xfrm>
          <a:prstGeom prst="upArrow">
            <a:avLst>
              <a:gd name="adj1" fmla="val 50000"/>
              <a:gd name="adj2" fmla="val 198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is is a map ____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nada is 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紧挨着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 the U.S., they speak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___________is the capital city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flag of the U.S. 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有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s and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条纹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812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81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814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38080" y="3429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shington, D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5720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81080" y="4419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lac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同学们了解并掌握美国的著名景点和城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, the Statue of Liberty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二、同学们可以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介绍美国的著名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White Hou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010928151909"/>
          <p:cNvPicPr/>
          <p:nvPr/>
        </p:nvPicPr>
        <p:blipFill>
          <a:blip r:embed="rId2"/>
          <a:stretch/>
        </p:blipFill>
        <p:spPr>
          <a:xfrm>
            <a:off x="457200" y="16002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ident of the U.S. lives in the White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334046232924"/>
          <p:cNvPicPr/>
          <p:nvPr/>
        </p:nvPicPr>
        <p:blipFill>
          <a:blip r:embed="rId1"/>
          <a:stretch/>
        </p:blipFill>
        <p:spPr>
          <a:xfrm>
            <a:off x="457200" y="1828800"/>
            <a:ext cx="5276880" cy="406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0090707175802421"/>
          <p:cNvPicPr/>
          <p:nvPr/>
        </p:nvPicPr>
        <p:blipFill>
          <a:blip r:embed="rId2"/>
          <a:srcRect l="0" t="0" r="7500" b="15997"/>
          <a:stretch/>
        </p:blipFill>
        <p:spPr>
          <a:xfrm>
            <a:off x="5867280" y="2057400"/>
            <a:ext cx="2819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, Li 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1300000030421122183160976960"/>
          <p:cNvPicPr/>
          <p:nvPr/>
        </p:nvPicPr>
        <p:blipFill>
          <a:blip r:embed="rId1"/>
          <a:stretch/>
        </p:blipFill>
        <p:spPr>
          <a:xfrm>
            <a:off x="457200" y="1371600"/>
            <a:ext cx="420696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105520" y="1905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724280" y="32004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e of Libe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in New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读课文，划出新单词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, country, Washington, D.C., stripe, next to, a map of…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讨论其发音与中文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side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938J4O3O4T8F0001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就是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ue of Liberty. It is in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总统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U.S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住在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know the 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著名景点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95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5120" y="21337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057400" y="2743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3276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v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004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am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an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p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华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ri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xt to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8_120905155322_1"/>
          <p:cNvPicPr/>
          <p:nvPr/>
        </p:nvPicPr>
        <p:blipFill>
          <a:blip r:embed="rId3"/>
          <a:stretch/>
        </p:blipFill>
        <p:spPr>
          <a:xfrm>
            <a:off x="152280" y="2514600"/>
            <a:ext cx="5181840" cy="3848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191120" y="6248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map of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rot="2710800">
            <a:off x="5005440" y="5125680"/>
            <a:ext cx="1295280" cy="184320"/>
          </a:xfrm>
          <a:prstGeom prst="rightArrow">
            <a:avLst>
              <a:gd name="adj1" fmla="val 50000"/>
              <a:gd name="adj2" fmla="val 1756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ntry is next to the U.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国家紧挨着美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. It’s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知道。是加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，讲（后跟某种语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, they spea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美国，他们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shington, D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capital city of the U.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美国的首都城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Washington, D.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华盛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of the U.S. has stars and str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的国旗有星星和条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red, white and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红白蓝相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78775625424_2"/>
          <p:cNvPicPr/>
          <p:nvPr/>
        </p:nvPicPr>
        <p:blipFill>
          <a:blip r:embed="rId3"/>
          <a:stretch/>
        </p:blipFill>
        <p:spPr>
          <a:xfrm>
            <a:off x="4191120" y="3505320"/>
            <a:ext cx="4952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xt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next to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(UH1G}YSELUYEEMJHZ(L83K"/>
          <p:cNvPicPr/>
          <p:nvPr/>
        </p:nvPicPr>
        <p:blipFill>
          <a:blip r:embed="rId3"/>
          <a:stretch/>
        </p:blipFill>
        <p:spPr>
          <a:xfrm>
            <a:off x="31680" y="1981080"/>
            <a:ext cx="9134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10:07:33Z</dcterms:created>
  <dc:creator/>
  <dc:description/>
  <dc:language>en-US</dc:language>
  <cp:lastModifiedBy/>
  <dcterms:modified xsi:type="dcterms:W3CDTF">2016-07-24T10:11:4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